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0A5-14E7-4B05-B327-DB8E7789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8A5-FE5E-410C-88AC-5F0693D1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213F-A27F-4DFE-A49D-FADBB23D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C2BE-C90C-40DC-A344-E4474C56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307-26C2-4355-9731-CB6043CF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FCF-3485-4E5D-97CF-87874170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53BF-9870-40BF-BD5B-7034B7AE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507-FFD8-49C2-BDB3-00CA346C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F7E-D6D5-493E-961C-FB57A723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6757-7BE2-4733-B9D4-F53E6924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EA0-0DC9-4DFA-8115-B37D92B9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D65-85B9-4A16-B1AB-9154593C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8C96-E30A-41F0-BC53-1D655EB4A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ys – two dimensi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pter explains how to do the following with a two dimensional arr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, use indices, obtain size, pass as a parameter and init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‘final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final shop = 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final days = 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[ ] [ ] sales = new int [shops] [days]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hops or days rewritten the rest of the code in the program that access those variables and will work with the additional shop for ex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izing a two dimensional arr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table = new int [10] [10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up an array named table in memory, zeros out every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s can be initialized explici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 int row = 0; row &lt;.9; row++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column = 0; column &lt;=9; column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[row] [column] = 99 ; }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explicit loading of a two dimensional arr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[ ] [ ] array = { { 1, 0,1 } , { 0, 1, 0}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 loads ‘array’ with 1 0 1 in the zeroth 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0 1 0 in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 ‘Rainfall’ pages 267 screensh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 dimensional array of rainfall over seven days at three locations. User may change values by entering location [index] day[index] and a new value of amount of rainfall as the data in the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ray is declared and initalia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int [ ] [ ] rainData = {{ 10, 7, 3 …see page 267…}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 used to display, change values and calculate the total rain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3657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r must limit row (location) from 0.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limit columns (days) from 0.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integer value for the actual rain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common two dimensional arrays or tabl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sboard, train tables, spread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[ ] [ ] sales = new int [4] [7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is a new two dimensional array. Sales has 4 rows and 7 columns (Java is row major language, rows always fir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may be used by four stores (rows) –  seven days (columns) a week. ( rows numbered 0..2, columns 0..6) All Java arrays start with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gram of the ‘store’ arr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26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page 262 for the comple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ed in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[ ] [ ] sales = new int [4] [7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  temps = new double [10] [24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rows first 4 for sales 10 for te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s after 7 for sales, 24 for tem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[2] [4] = Integer.parseInt (textField.getText( 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ssBoard [3] [4] = textField.getText 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ve: how individual elements may be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es [3] [2] = 99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sBoard [2] [7] = “Knight”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 place Knight on a squ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or way to sum a two dimensional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= sales[0] [0] + sales [0] [1] +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plus all the rest of the elements of the two dimensional array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way: use loo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loops to sum every element of sales two dimensional arr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[ ] [ ] sales = new int [4] [7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 sum;  sum = 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shop = 0; shop &lt; = 3; shop++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 int dayNumber = 0; dayNumber &lt; = 6; dayNumber++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= sum + sales[shop] [dayNumber]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// shorter and more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ize of an 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[ ] [ ] info = new double [20] [40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maxsize = info.leng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 remember .length from one dimensional array ch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ing arrays as parame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or multi dimensional, all passed the same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int sum ( int [ ] [ ]  array 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text of sum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to meth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[ ] [ ] sales = new [24] [12] ;    int tot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= sum( sales); the array ‘sales’ is passed to the method sum. The array name ‘sales’ hold the address of the zeroth element, the beginning of the arr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int [ ] [ ] sales = new [7] [7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row and columns ar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an additional shop is added to the progr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int day = 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shops = 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ly change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5:20:21Z</dcterms:created>
  <dc:creator>ITS</dc:creator>
  <dc:description/>
  <dc:language>en-US</dc:language>
  <cp:lastModifiedBy>ITS</cp:lastModifiedBy>
  <dcterms:modified xsi:type="dcterms:W3CDTF">2005-05-04T17:33:15Z</dcterms:modified>
  <cp:revision>4</cp:revision>
  <dc:subject/>
  <dc:title>Arrays – two dimensional</dc:title>
</cp:coreProperties>
</file>